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67BB-0EA7-4203-8AAF-1A70ED0BC8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4D4FF-00BE-4883-85F0-3BD63EDA12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8D78-E31F-452A-9DBE-A90F452A04D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B864-3EBF-420D-B26A-D6AF6C2B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13A-6BB0-470A-A658-30A345E5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47DE-EB40-438F-82AA-2585DE2F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E17D-2C11-4227-94FD-28F4A0BE7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F816-8AE5-4C9F-9955-F20792B7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DC2D-4425-4539-97A6-DF5F08057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6B8B-B1B9-4FE3-A328-59185E66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D989-C4D6-494E-882D-1F14B4912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5E77-184F-4CFC-9742-2108A8715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091B-9FC1-4BA0-BBAB-315BB1FE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AD6F-FF7F-4662-86AE-8672E40E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B8D-E7F7-4DF0-9877-B73792A7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7FF9-61B7-400F-A6A2-5BC4F6B0E839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E.M.Pahomova@gmail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381880" cy="1828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Всероссийский конкурс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Verdana"/>
              </a:rPr>
              <a:t>«Учитель года России»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2362320"/>
            <a:ext cx="79246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f81bd"/>
                </a:solidFill>
                <a:latin typeface="Arial"/>
              </a:rPr>
              <a:t>Рекомендации при подготовке к конкурс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E.M.Pahomova@gmail.co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53520" cy="1279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 подготовке выступления  и  в самом выступлении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определении собственных концептуальных позици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выделении в собственном педагогическом опыте наиболее ценных составляющих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доказательности актуальности и новизны применяемых методов, способов, технологий обучения и воспитания детей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ачественн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 логичном представлении  собственного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опыта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.  В к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омпетентн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самоанализ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веденного учебного занятия в соответствии с представленным педагогическим опыт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предмета разговора, т.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О ЧЁМ ВЫ ХОТИТЕ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РАССКАЗАТЬ?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объёма информации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Вы хотите рассказать свою педагогическую биографию или представить на обсуждение …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1f497d"/>
                </a:solidFill>
                <a:latin typeface="Verdana"/>
              </a:rPr>
              <a:t>ЧТО?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1f497d"/>
                </a:solidFill>
                <a:latin typeface="Verdana"/>
              </a:rPr>
              <a:t>На определении формы представления своего опыта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Помним: жанр конкурса – это не защита диссертации, но и не бурный поток сознан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На построении логики выступления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ЧТО? Откуда взялось?  Кем придумано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	</a:t>
            </a: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ДЛЯ ЧЕГО (достижения какого результата) используетс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КАК разрабатывалось и приобретало практические очертания и технологические конструк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97d"/>
                </a:solidFill>
                <a:latin typeface="Verdana"/>
              </a:rPr>
              <a:t>Может именно здесь сказать о взаимодействии …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Пути взаимодействия ( С КЕМ?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Verdana"/>
              </a:rPr>
              <a:t>Условия реализаци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Схема 3" descr=""/>
          <p:cNvPicPr/>
          <p:nvPr/>
        </p:nvPicPr>
        <p:blipFill>
          <a:blip r:embed="rId1"/>
          <a:stretch/>
        </p:blipFill>
        <p:spPr>
          <a:xfrm>
            <a:off x="438120" y="152280"/>
            <a:ext cx="7505640" cy="12798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Verdana"/>
              </a:rPr>
              <a:t>И постоянно помним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образования – одно из основных требований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ФГО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Метапредметный характер учебных занятий – один из основных критериев конкурсных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Verdana"/>
              </a:rPr>
              <a:t>задани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22720" indent="-522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Прямоугольник 4"/>
          <p:cNvSpPr/>
          <p:nvPr/>
        </p:nvSpPr>
        <p:spPr>
          <a:xfrm>
            <a:off x="3870720" y="3244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Мероприятия 2-ого тур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Разговор с учащимис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Беседа с родителя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Учебное занятие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Учебное занятие» (регламент 40 минут, включая 10 минут для анализа занятия и ответы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учебного занятия с учащимися, отражающего </a:t>
            </a:r>
            <a:r>
              <a:rPr b="0" lang="ru-RU" sz="2800" spc="-1" strike="noStrike" u="sng">
                <a:solidFill>
                  <a:srgbClr val="102c34"/>
                </a:solidFill>
                <a:uFillTx/>
                <a:latin typeface="Verdana"/>
              </a:rPr>
              <a:t>метапредметный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подход и междисциплинарные связи, умение формировать целостную картину мира и </a:t>
            </a:r>
            <a:r>
              <a:rPr b="0" lang="ru-RU" sz="2800" spc="-1" strike="noStrike">
                <a:solidFill>
                  <a:srgbClr val="102c34"/>
                </a:solidFill>
                <a:latin typeface="Verdana"/>
              </a:rPr>
              <a:t>надпредметны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омпетентности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Verdana"/>
              </a:rPr>
              <a:t>Найдите слова-синоним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Рефлексия учебного занят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содержания, использованных технологий и достигнутых результатов поставленным целям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замысла и реально развернувшейся учебной ситуаци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точность анализа учебного занятия и рефлексии своей деятельност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Что стремятся увидеть члены жюри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содержанием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лубина и оригинальность раскрытия темы учебного занятия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здание условий для успешной работы детей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основанность использованных методов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апредметность ……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онкурсные задания – 2013 год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етодическое объединение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(семинар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Учебное занят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азговор с учащимис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Беседа с родителям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8229600" cy="15717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Беседа с учащимися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(регламент до 20 минут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876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Verdana"/>
              </a:rPr>
              <a:t>Формат: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суждение с учащимися актуального для них вопроса в режиме импровизаци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писок возможных вопросов для обсуждения , возрастной и количественный состав группы учащихся определяются участниками финала конкурса на установочном семинар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кретный вопрос для обсуждения  выбирают учащиеся на основе списка возможных вопросов непосредственно перед началом и представитель учащихся называет вопрос, выбранный группо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ритерии оценивания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глубина и воспитательная ценность организованного обсуждения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создавать и поддерживать атмосферу взаимоуважения и толерантности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организовывать взаимодействие учащихся между собой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слушать, слышать и понимать позиции учащихся, адекватно и педагогически целесообразно реагировать на них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мение включить каждого учащегося в обсуждение и формирование выводо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Разговор с родителям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Критерии оценивания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выявить и сформулировать педагогическую проблему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найти и предложить пути решения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взаимодействовать с коллегами и родителями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– 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частие в принятии коллективного решения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Мероприятия 3-го тур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астер-класс» (регламент: до 25 минут, включая 5 минут для ответов на вопросы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ормат: проведение мастер-класса для ученического, педагогического, родительского сообществ и общественности, отражающего значение преподаваемого предмета для формирования мировоззрения и общекультурных компетенци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ffff"/>
                </a:solidFill>
                <a:latin typeface="Verdana"/>
              </a:rPr>
              <a:t>Что такое мастер-класс?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— это интерактивная форма обучения и обмена опытом, объединяющая формат тренинга и конференции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Verdana"/>
              </a:rPr>
              <a:t>Мастер-класс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 (от английского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master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лучший в какой-либо области + </a:t>
            </a:r>
            <a:r>
              <a:rPr b="0" i="1" lang="ru-RU" sz="2200" spc="-1" strike="noStrike">
                <a:solidFill>
                  <a:srgbClr val="000000"/>
                </a:solidFill>
                <a:latin typeface="Verdana"/>
              </a:rPr>
              <a:t>class</a:t>
            </a: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 — занятие, урок) действительно является семинаром, который проводит эксперт в определённой дисциплине, для тех, кто хочет улучшить свои практические достижения в этом предмете. Очевидно, таким образом, что мастер-классы не показывают, а проводят. Придя в русский язык, слово «мастер-класс» и вовсе получило самое широкое значение; так теперь называют практически любой семинар, проводимый опытным человеком, неважно, в какой области знаний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Требования к участнику конкурса: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41536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лубо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едагог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етод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дактичес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подготовк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;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знания психолого-педагогических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теоретических оснований представляемого опыта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понимани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современных концепций образования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1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провести ревизию своего педагогического оп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2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пределить тему представляемого опыта, сформулировать ее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3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ставить план свое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4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написать текст выступления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лгоритм подготовки к конкурсу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5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соотнести свое выступление с предъявляемыми в условиях конкурса критериями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6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- подготовить компьютерную презентацию к своему выступлению;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7 шаг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– отрепетировать выступление перед публикой (зеркалом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имерный (возможный) план выступл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Что? Зачем? Как? Что получаю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ма опыта (проблема из противоречий в образовании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, задачи, которые ставите для решения проблемы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правления деятельности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заимодействия (сотрудничество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и, методики, используемые в работе (найти «изюминку»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 (прогнозируемый и реаль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озможно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е педагогическое кред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ои правил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ические цен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Схема 3" descr=""/>
          <p:cNvPicPr/>
          <p:nvPr/>
        </p:nvPicPr>
        <p:blipFill>
          <a:blip r:embed="rId1"/>
          <a:stretch/>
        </p:blipFill>
        <p:spPr>
          <a:xfrm>
            <a:off x="517680" y="176040"/>
            <a:ext cx="8418240" cy="1440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785880" y="1844280"/>
            <a:ext cx="785808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«Методическое объединение</a:t>
            </a:r>
            <a:r>
              <a:rPr b="1" i="1" lang="ru-RU" sz="3300" spc="-1" strike="noStrike">
                <a:solidFill>
                  <a:srgbClr val="000000"/>
                </a:solidFill>
                <a:latin typeface="Arial"/>
              </a:rPr>
              <a:t> (семинар)</a:t>
            </a: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00000"/>
                </a:solidFill>
                <a:latin typeface="Verdana"/>
              </a:rPr>
              <a:t>или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000000"/>
                </a:solidFill>
                <a:latin typeface="Verdana"/>
              </a:rPr>
              <a:t>представление  педагогического  опыта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(по  идее конкурса  -  инновационного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274680"/>
            <a:ext cx="830592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Желаю успехов всем участникам конкурса!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3" descr="j0301252"/>
          <p:cNvPicPr/>
          <p:nvPr/>
        </p:nvPicPr>
        <p:blipFill>
          <a:blip r:embed="rId1"/>
          <a:stretch/>
        </p:blipFill>
        <p:spPr>
          <a:xfrm>
            <a:off x="2209680" y="2674800"/>
            <a:ext cx="4038840" cy="314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ческий семинар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регламент до 12 минут, включая вопрос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Формат:  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стное представление конкурсантом своего профессионального опыта как опыта, сформировавшегося при взаимодействии с коллегами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лями различных предметов, педагогами и специалистами образовательных учреждений    разных типов и видов, родителями учеников, общественными организациями, работниками   науки, культуры, сферы здравоохранения, представителями других сфер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Verdana"/>
              </a:rPr>
              <a:t>Критерии оценивания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   выявлять и применять инновационные идеи в своей  профессиональной деятельности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мение взаимодействовать с аудиторией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мение анализировать, обобщать, выявлять и применять инновационные идеи в своей профессиональн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(эффективность внедрения инноваций в педагогическую практику, ценность педагогических социальных системных  эффектов, эффективность представленных форм взаимодействия, практическая значимость представленных форм трансляции опыта)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бщая и профессиональная эруди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широта кругозора, психолого-педагогическая и методическая грамотность, понимание государственной стратегии в области образования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ультура публичного выступ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логичность изложения материала, связная устная речь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Критерии оценк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Умение взаимодействовать с аудитори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Verdana"/>
              </a:rPr>
              <a:t>(эмоциональное воздействие на аудиторию, культура использования ИКТ)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Схема 3" descr=""/>
          <p:cNvPicPr/>
          <p:nvPr/>
        </p:nvPicPr>
        <p:blipFill>
          <a:blip r:embed="rId1"/>
          <a:stretch/>
        </p:blipFill>
        <p:spPr>
          <a:xfrm>
            <a:off x="438120" y="255600"/>
            <a:ext cx="7505640" cy="1171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8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400" spc="-1" strike="noStrike">
                <a:solidFill>
                  <a:srgbClr val="1f497d"/>
                </a:solidFill>
                <a:latin typeface="Verdana"/>
              </a:rPr>
              <a:t>?</a:t>
            </a:r>
            <a:endParaRPr b="0" lang="en-US" sz="3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6:24:41Z</dcterms:created>
  <dc:creator>Пахомова</dc:creator>
  <dc:description/>
  <dc:language>en-US</dc:language>
  <cp:lastModifiedBy>Гузалия Гилязовна Ибатуллина</cp:lastModifiedBy>
  <dcterms:modified xsi:type="dcterms:W3CDTF">2012-12-18T11:54:58Z</dcterms:modified>
  <cp:revision>35</cp:revision>
  <dc:subject/>
  <dc:title>Представление опыта</dc:title>
</cp:coreProperties>
</file>